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69388"/>
        <c:axId val="71589145"/>
      </c:barChart>
      <c:catAx>
        <c:axId val="77569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9145"/>
        <c:crosses val="autoZero"/>
        <c:auto val="1"/>
        <c:lblAlgn val="ctr"/>
        <c:lblOffset val="100"/>
        <c:noMultiLvlLbl val="0"/>
      </c:catAx>
      <c:valAx>
        <c:axId val="71589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69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F06-B754-4BC8-B006-CCDBD538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E18-5F19-4079-A139-BB4FD62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2BB-643C-4193-A137-21E0B739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D57-5A0E-4C57-A940-E18F0585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5DE-0117-4FAD-8760-73EDF906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9E5-2415-491E-AE07-793FF8F7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AB2-0F64-41C9-B5A8-19F4B08E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C40-4351-4002-84E7-1AFFC573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2C8-885D-4C1A-AC47-6813FC92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9CD-6F56-4A78-AF8C-36E3223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BDF-DBBC-463A-AEDB-D88999A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692-9719-45A1-BA49-1D3E809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AA7CC-552E-47E7-AFED-935AC5CDE8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